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alibri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9278-13FE-4021-BAFE-DD5B2C033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5474-CCE7-4818-AFBD-70125D250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6AA4-573E-494C-8FD4-ADC6EA990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94A9-E5E2-453F-9A4B-38DCFB7C2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B771-8E35-4B04-B78F-B0D80E739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D524-EBCE-47B9-81E7-D38E2A1F2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DE48-52A9-40D2-8C72-DD4B158D0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AB93-1E93-4D4A-911E-E04048C6A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8B28-EFD8-4698-9907-0C77C75A7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F396-497A-4C96-8F69-3F1A5D802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A9AA-9201-494C-AD49-1620C96CA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391B-C79D-415E-AFBC-750C0F370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ABCC-803A-4F6A-AF82-85BA0B93A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4B35-67B7-46D5-AE9C-CF2C894A0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14CF-EE0B-47C2-91DB-75CE62BBB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E4B3-F32B-478B-9F69-A4BEF4B99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2E24-14D7-4AAF-B87E-6FC1CDE25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81F8-F89F-4D84-AD62-07106A963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D962-3A7F-418C-AB5B-4A4FA8A1B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364D-3329-49F4-98DA-57659559D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D3D0-4FAC-4BA4-9996-AF261DEB5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2D7F-694F-4B40-A69A-5FDEAE6B3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5419-F016-48D6-94F5-20185DF47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7958-0141-40B3-9E08-8E940C52C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2FFF-B2D1-4481-9F2C-D749857D1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4D2D-33B9-452F-9894-0443EE0BB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14C7-CC37-4B5B-8A2D-9EF434DD3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F354-0DD1-4DC8-9FC0-A12090645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138A-7383-44A1-A48F-BC27189FE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8624-FB77-4073-9897-EF1033576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DAE1-1464-4AA9-9911-B38B1B698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9645-3257-4197-A22B-768058A6F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9C9A-C7B6-44DC-A31A-923A805D6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C8EA-D98F-4F11-B435-AF6C079EB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2862-06C4-4735-976B-F36826255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4A67-FA93-4921-BD38-A16F0952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6B7D-72BF-40F1-8A77-08F5A615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46C-9814-4D3C-96CF-A2C67768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E610-8255-48D0-8FD7-6D1F66F7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BF60-5C81-4DBF-98D2-E6E69DBE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3DBC-58B3-4BE7-90EF-4375EFEB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E35E-C513-4BFD-B38C-3C3C5334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7417-9882-4E01-9B2A-5DD3BD2F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2A73-EB40-4B0A-9025-BBEFA3A3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9A38-5EE0-444C-86DD-5A4EA005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03A2-F1F3-4A5E-9029-A9152DA7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4BB-255D-4E7D-8463-BA3B0B28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F343-0E40-4707-8705-1FDA7831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A98E-2B45-474F-AC71-19625843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FDF8-CA84-4EBD-B558-55C041CC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4839-291E-4C22-BA12-F7854D64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F9C1-4CDB-4F10-9AF1-3E242673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F2BB8-E3AA-4F1C-A5F4-C3A025BB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606A-1F4D-47DA-9ACE-4500D973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688A7-422B-4F80-B925-D4077028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7EE54-967B-4914-8087-AC273169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4F9DA-E900-4175-B74A-52744FBB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51D-CEB5-48B2-8363-CD7C826E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DEE29-CE53-468E-8A0D-EFDC81FA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5B545-63D6-473A-855A-F20B7BFF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CEC65-996E-4FBC-B407-14BB9409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7B0AD-3FA2-485A-BCF3-3A2AD765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5FC9B-3BEC-4814-9D3E-BA1B0F5D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3B073-074B-4995-9FBC-27EA6E16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A8360-68BE-409A-997A-39B13869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D637E-75F3-4E96-8027-FA35099A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289A8-B899-4E62-8DD6-183BF85F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6959F-5630-4815-8968-B76143A4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E030-81B0-4956-9539-DDE61F14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46CDC-D16F-4BCD-94E7-A6035A5E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05FE1-512E-4181-B558-5E00EADC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715DD-C9CA-4372-AE14-11C922E0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E6769-43F1-41A8-AF45-B7517519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E977C-3782-4E05-B0D1-A02D0180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AEA96-1E9A-475C-A5AC-ABCC34BE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8924E-2238-4443-BA5A-551DD3CF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43A6D-7191-4872-AE0E-6DF87523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5551E-8499-43CC-81A9-2B329F0A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3603E-889B-492A-BC42-4F95BF77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5CC-EED4-4FDD-82A6-55ADAD50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03D02-1957-43A2-A827-0C55E96E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1C7F5-A4EC-46B9-82D2-C3D5889E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485AD-F4AF-4626-B503-E883BFBF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ADD2A-6464-4E2F-A7B3-CC2F4D69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3B4FD-9347-4D53-B365-0F4E43D4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487C9-4245-4C9F-A74A-161BBB05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B818A-57B9-4941-97C2-8BDE88C3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B1486-92CA-4614-BE99-1A97C40B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72D1C-BAF1-4EDF-BA71-1D1F7FBF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ECA18-A90D-4C75-8949-A886D2D0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43C-F3EA-4B84-97E3-6837A2B8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B333C-0F8D-44A0-ADB4-DECC046C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38050-EAFA-4B56-93EC-F4A55CF3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ED7CC-A6FA-4D05-9E12-FD72BC14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E77BC-9E41-4208-8208-313DA1C4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8AEF5-3F27-4CCA-A085-C6FA633C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E0546-834F-473E-8DD8-49A4D680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FD72D-D0AA-4DD1-8525-C5075C5F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77C6E-1CFB-4C03-AB4E-712A413B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B4C8D-2DC8-44B1-A74A-C4DF082E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F3AD9-1E9C-4EB1-A198-A1F61F0B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CABF-4837-4966-8B46-F1779A6C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C7652-43DB-43E7-A540-C048B60D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E6A45-3031-4287-AB7D-B303DB94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1CE61-744E-4E0F-BF8B-A83C0300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872C5-B513-44D0-A9C0-7DC6D8DF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1B250-3A3E-4837-BFF7-E7F7A15F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96E8F-7D18-4B4E-8220-30E0965E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E4CEB-488E-4141-9788-DD24E52A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5E77E-7286-4E71-900D-A744B2ED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B2FD7-F01A-407B-923D-1EF83BCE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3E9D9-43A6-4CAE-B471-A11E1826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E65-7617-41B1-B6AE-BA9948A3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B476D-33C6-427D-82CC-45280E5C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342B1-7EAA-4632-AC85-05771E13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8B5B3-B02B-4011-889C-7E63AB10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70522-5891-4D15-B612-176458EC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2F61F-CCCD-4493-A9BF-5CD7436F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075-71BF-4FF8-88D4-3CE54D24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alibri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A9CA-49E8-4740-A7A9-76BB7A6B0A22}" type="datetime">
              <a:rPr b="0" lang="en-US" sz="1200" spc="-1" strike="noStrike">
                <a:solidFill>
                  <a:srgbClr val="3f3f3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F879-EB84-4000-98E8-D1436832213A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alibri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182F-AB05-4302-8BF1-4B42AE839F2B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0E20-B2C3-41AC-80F1-14DE4F8443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alibri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35E1-380E-47ED-BAD9-56BCAEE91499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BF0A-621C-47CC-87ED-0D6383780F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alibri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E413-7048-490E-B58F-67BA6306C405}" type="datetime">
              <a:rPr b="0" lang="en-US" sz="1200" spc="-1" strike="noStrike">
                <a:solidFill>
                  <a:srgbClr val="3f3f3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5793-6EDF-4133-A39B-0A3534D7EB98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alibri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50D8-A728-4205-99A4-57CEB6EEDB2B}" type="datetime">
              <a:rPr b="0" lang="en-US" sz="1200" spc="-1" strike="noStrike">
                <a:solidFill>
                  <a:srgbClr val="3f3f3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FA4A-9CDD-4600-BFAE-CE5B206AD83A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alibri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6B56-AC25-4F76-8FFF-80C76E2905E7}" type="datetime">
              <a:rPr b="0" lang="en-US" sz="1200" spc="-1" strike="noStrike">
                <a:solidFill>
                  <a:srgbClr val="3f3f3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1982-4AE7-4BFB-AEA5-29B31786147F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alibri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CCB7-AD7C-47A9-8425-A22544C1B13B}" type="datetime">
              <a:rPr b="0" lang="en-US" sz="1200" spc="-1" strike="noStrike">
                <a:solidFill>
                  <a:srgbClr val="3f3f3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C0E9-D250-4AA5-A63C-A44C54E89993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maxbankuptcybootcamp.com/" TargetMode="External"/><Relationship Id="rId3" Type="http://schemas.openxmlformats.org/officeDocument/2006/relationships/hyperlink" Target="http://www.maxgardnerlaw.com/" TargetMode="External"/><Relationship Id="rId4" Type="http://schemas.openxmlformats.org/officeDocument/2006/relationships/hyperlink" Target="mailto:maxgardner@maxgardner.co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alibri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-302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Variation by Agre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)  The effect of provisions of this Chapte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ay be varied by agreemen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b)  Good faith, diligence and reasonableness are th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nly term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t may not be changed by agree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c)  The presence of the words “unless otherwise agreed”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oes not imply that other provisions of this Chapter may not be varied by an agreement of the parti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2.01.  Conveyance of Mortgage Lo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eller Here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ls, Transfers, Assigns, Sets Over and Otherwise Conveys to the Depositor, without recourse, All the Right, Title and Interest of such Seller in and to the Applicable Mortgage Loa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ales Shall be As Provided in this Agre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ivery Shall be On or Before the Applicable Cut-Off 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ocuments Shall be Delivered to the Master Servicer Before the Cut-Off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ster Servicer Confirms that All Sellers have Made Such Transfers and Deposits Before the Cut-Off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ers by Such Deposits have Conveyed to the Trustee for Benefit of Certificate Holders All Right, Title and Interest In and To the Mortgage Lo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eller Transfers and Sells All Interest and Principal Received After Cut-Off Date to T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eller has Entered this Agreement in Consideration for Purchase of Mortgage Loans by the Deposi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eller Has Agreed to Take All Actions Provided Her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eller Sets Over and Conveys Mortgage Loans to Depositor for Benefit of Certificate Holders of T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5828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positor Agrees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ns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sig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Otherwise Conve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out Recour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Right, Title and Interest in the Mortgage Lo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LIVER All Documents to the Trustee per Transfer Agre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ecute and Deliver Any Other Documents To Trust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Opinions of Counsel to Rating Agencies t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Sales are True S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Documents Executed per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Documents Transferred and Delivered per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Mortgage Loan More than 30 Days Delinqu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Representations and Warranties of Sellers and Depositor Have Been Per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al Opinion Letters (cont’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 of Mortgage Loans Does Not Result in Imposition of the Tax on Prohibited Transactions on Trust Funds by Sections 860F(a)(2) and 860G(d) of the IRS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the Trust is properly formed Under the REMIC Tax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the Trust Qualifies as a REMIC Tr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699400" cy="12621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ligations of the MDC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irm Timely Receipt of All Loan Documents for Each Loan by Loan Number and Borrower Identification Number per Mortgage Loan Schedu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irm Unbroken Chain of Transfers and Assignments of All Loan Documents from All Sellers to Depositor and from Depositor to Trust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irm Proper Endorsement of All Mortgage Notes from All Sellers to Depositor and from Depositor to Trust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ligations of MD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rm all Transfer and Delivery Receipts for Bearer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rm all Allonges Permanently Affixed to All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rm all Mortages and Deeds of Trust Exectued and Delivered per Terms of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e Confirmation Reports with Master Servi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e Exception Reports with Master Servi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ligations of MD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iver to Master Servicer Certificate of Compliance with All Transfer and Receipt Conditions for Each Mortgage Loan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 Electronic Data for Each Mortgage Loan Confi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e Each Mortgage Loan File in Safe, Secure and Fire Proof Storage Facility and Index Each and Every Such Loan in Sto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lphabet Probl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A_____The Loan Origin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B_____The Warehouse Le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C_____The Spons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_____The Deposi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E_____The Master Servicer for T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F_____The Trustees for Certificate Hol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G_____The Master Document Custod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iginal Mortgage No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very &amp; Transfer Receipts for No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ue Sale Agreements (Asset Sale &amp; Purchase Agreement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very &amp; Transfers of Mortgages &amp; Deeds of Trust (whether or not Recorded Locally or thru MER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ue Sale Legal Opin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ecks or Wire Transfers of $$$ for Each S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ting Agency True Sale Confirmations Each S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Loan Closing Documents Each S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presentations and Warranties Each S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5b1b"/>
                </a:solidFill>
                <a:latin typeface="Calibri"/>
              </a:rPr>
              <a:t>A to B-----Originator to Warehouse Le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253e"/>
                </a:solidFill>
                <a:latin typeface="Calibri"/>
              </a:rPr>
              <a:t>B to C-----Warehouse Lender to Spon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C to D-----Sponsor to Deposi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 to E-----Depositor to Master Servi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E to F-----Master Servicer to Trus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F to G-----Trustee to Master Document       Custodian for Trust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ways Focus on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UNBROKEN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o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 to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 to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 to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to 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 to 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(Originator) to F (Trustee) Indorsement of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(Sponsor) to F (Trustee) Indorsement of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(Orignator) to C (Sponsor) Indorsement of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(Originator) to G (Master Document Custodian) Indorsement of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 (Warehouse Lender) to F (Trustee) Indorsement of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(Originator) to F (Trustee) Assignment of Mortgage or Deed of T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(Sponsor) to F (Trustee) Assignment of Deed of Trust or Mortg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(Sponor) to G (Master Custodian)  Assigment of Deed of Trust or Mortg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(Originator ) to E (Depositor) Assignment of Mortgage or Deed of T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nge Cannot be Used to Assign Mortgage or Deed of T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ed of Trust Cannot be Used to Negotiate a Mortgage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tgage Note is Negotiated by Endorsement or Delivery and Not Assig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te of Execution of Document is After Cut-Off Date for T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nge Not Permanently Affixed to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nge Does Not Identify Lo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arized in the following jurisidicit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kota County, M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nnepin County, M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val County, F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kalb County, 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x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ifor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r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Stamped on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ipt Writing of Name Not Leg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ed as Vice President or Secre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eror Has No Offices in County where Document Execu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e Signed and Dated Notarized Diffe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ary’s Name Stamped on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Pre-Printed Fill-in-Blanks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PS Default Solutions, LL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erly Fide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mmis Default Solutions LL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cCalla Raymer, Pite Duncan, Johnson, et 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ional Default Exchange, LL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rrett Daff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ional Bankruptcy Services LL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rice Vander L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rst American Default Solu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GS Financial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aprio &amp; Kriesem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ocu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tgage No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ed of T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tg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set Sale and Purchase Agre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ue Sale Legal Opin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ting Agency True Sale Confirm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ling and Servicing Agre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ster Servicing Agre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ster Document Custodial Agre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ssignments of Mortgages &amp; D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llo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Indors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ffidavits of Defa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ffidavits of Owne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Lost Note or Assignment Affidav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ify Compla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ify Discovery Respon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ffidavits for Any Alphabet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80160" cy="1427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R Ratings Driving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orney Performance Ra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Event is Ti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ing and Closing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PS Desktop is Really Time Tracking Mach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en, Yellow and Blue Fi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3 &amp; 3 R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46160" y="-55440"/>
            <a:ext cx="8759880" cy="14032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Application for Original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C and Master Servicer Must Appr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Secure and Pay for Transit Insu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Secure Custodial Insu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Secure Transit Insurance to Retu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Prepare Return Forms and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Must be by Secure Carr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ormal Time for Receipt is 4 to 8 Wee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broken Chain of Transfers and Assignments Pursuant to the Loan Agre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less Otherwise Agreed Means CANNOT prove Perfection Soley by UC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jective of Agreements was to Make Mortgage Loans FDIC &amp; Bankruptcy Remote for Origninators and Sell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sue Not Really Standing but Perfection and Ownersh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ssession of Original Note Does NOT Prove either Ownership or Perf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44600" y="-42840"/>
            <a:ext cx="8480160" cy="15303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. Max Gardner, 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 Gardner’s Bankruptcy Boot Ca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. O. Box 1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ar, NC 28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68bba"/>
                </a:solidFill>
                <a:uFillTx/>
                <a:latin typeface="Calibri"/>
                <a:hlinkClick r:id="rId2"/>
              </a:rPr>
              <a:t>www.maxbankuptcybootcamp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68bba"/>
                </a:solidFill>
                <a:uFillTx/>
                <a:latin typeface="Calibri"/>
                <a:hlinkClick r:id="rId3"/>
              </a:rPr>
              <a:t>www.maxgardnerlaw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68bba"/>
                </a:solidFill>
                <a:uFillTx/>
                <a:latin typeface="Calibri"/>
                <a:hlinkClick r:id="rId4"/>
              </a:rPr>
              <a:t>maxgardner@maxgardner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 Direct:  704.418.26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tgage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oling and Servicing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t Purchase and Sale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e Sale Opinions and Rating Re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ter Document Custodial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reed Transfer and True Sale Agreed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icles 3 and 9 of the UC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103(a)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ermit the continued expansion of commercial practices through custom, usage,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greement of the par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201(b)(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reement mean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rgain of the parties in fact, as found in their languag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inferred from other circumstances, including course of performance, course of dealing, or usage of trade . . 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201(b)(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act means the total legal obligation that results from the parties’ agreement as determined by this Chapter as supplemented by any other applicable laws (including the agreement of the parties) . . 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201(b)(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live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. .  With respect to an instrument, a tangible document of title, or chattel paper, mean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luntary transfer of posses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201(b)(2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ld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ans the person in possession of a negotiable instrument that is payable either to bearer or to an identified person that is the person in possession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2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umption with respect to a fact means that that the Trier of fact must find the existence of the facts unless and until evidence is introduced that supports a finding of its nonexistence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9:27:36Z</dcterms:created>
  <dc:creator>Bob</dc:creator>
  <dc:description/>
  <dc:language>en-US</dc:language>
  <cp:lastModifiedBy>user1</cp:lastModifiedBy>
  <dcterms:modified xsi:type="dcterms:W3CDTF">2011-02-15T16:30:44Z</dcterms:modified>
  <cp:revision>7</cp:revision>
  <dc:subject/>
  <dc:title>Max Gardner’s Bankruptcy Boot Camp</dc:title>
</cp:coreProperties>
</file>